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D89-1509-41FD-A58B-E3CD1B96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BC53-7756-45D9-A936-9AEC2B67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5D3-AAF0-4E51-B6A5-B93DFC8D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FA3-B12C-481B-A753-3420F0B0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8EBE-0C3C-4BCC-9517-597558D5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594-27C4-432F-B449-19CAC3D5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C073-A38C-4663-8ADC-D752CB5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C480-EC97-42D1-AE5A-B8D2CDD1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BC9F-CA34-4592-9346-CA215D41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0D94-0264-4D6D-9639-86B067E8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664-2CB2-4F09-8EDC-6930DDF1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B7C-70F3-4A73-BFBA-11416A0F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2815-1003-45E5-B081-2051726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A29A-F2C5-4AC3-89FA-8530D25D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864-7842-45B8-8E04-6D01ED06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BFFC-E1C0-4762-89E1-19CEBCA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B67-7D54-4B6A-9159-84A157CD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73718-06A8-42E9-93E5-97707D29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A8E7-AC55-47C0-A4D6-4838F39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6A68-EB61-4FD7-A13D-723D526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64841-75A8-4A1C-8E64-454A00EB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752A-BA7F-4CF1-B001-B62E482B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FC0-AAB4-46B7-B1BF-3EDFB931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2A0DF-4A0D-4010-B937-4B695FFD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ADBF-8E43-4537-B7A5-E94F8C1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19D0-CCBB-4C3E-B629-5BCD5CD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9669-E7F5-4305-A99F-3AA6C5D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088B3-707F-4C98-84B9-A9BD185A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AC6F-195F-448A-B303-74321EC9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2DA5F-08B2-400F-AA51-2AB6996F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A304-7E2F-47FE-97D0-D91A51B6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CB64-D014-44D6-9928-D1077583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5F987-5081-4B57-893C-CE08288C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C69-EAC7-478D-9DC1-E55F6E3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FD247-D931-4BBC-B43E-5295B78F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71C7-EAB3-49E5-B1C0-EBF167A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2A4C-2951-49BD-BAB4-A4888FC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B2261-85F5-4091-864C-69DCD0D7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ED3E5-E1DB-4FC7-8426-656EDF3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565E-D641-4EA7-9B93-136BB794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76FD8-8C97-43C6-AF47-9CF9803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A6F5-0BBF-4C34-AC52-B94501C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D24E-3DAE-4673-B962-CFB16BE1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0EF5-FED3-461B-B5D6-FCF86D54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C69-08B1-4F5E-A1EC-619A3127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65F7-308D-4387-98C3-EB5A3406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819F-8A08-4097-9D1C-4853FFD0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3410-B8CC-4756-8AC0-3A6F6D3A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A156-5CCC-4A3B-901B-6631FDBC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49FE3-85AA-42F6-8908-9E9197E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05CA-0581-4EBA-8270-6206E20C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D66E-A7E6-41F3-822C-16E456B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03277-BC6A-4980-82FC-082F12A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C2666-CE55-4FC2-8277-6481B95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7B0E-0750-4679-8E9B-D4AB7146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6F2-A532-434B-82B0-734F740A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3181-6C9F-4341-912D-EDDC8FA8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7C7D-D810-48E2-8AA2-6DDBDEB0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B741-7D5F-4A6B-85F5-EE9D7A91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F4B6-556E-4126-94F9-7D00AE4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7494-7086-4A6B-A7B7-E7B4995A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C491-B5A4-43B7-89DC-BB39DF7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67A5-6D73-472D-8F34-A378D840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F433-94BA-4123-BE9A-D93026AF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A8D92-8E65-4FB9-BDE1-42E1857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ED4A9-3FAB-495B-9DF2-7362831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A9A-AA4C-4D68-BE38-75C03FF5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2CDAB-1C0A-4C8A-986D-D93C8413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A82CE-D7E6-4B55-A175-AA9B52A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3E7E7-863A-4551-9A59-3AA15D37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8314F-1840-4465-985C-33963D38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A665-CF36-4860-8D09-E272D7C5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5C500-CFFC-4FD5-A548-2336704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9465-A02A-4505-958F-4486738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1B9F5-B8A3-42BA-8900-BE2DEE2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12AF-A707-43D2-B9E7-09279020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1868F-A744-461E-83BE-183FE04C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710-352C-41BA-A4AB-8F02D44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407A-1539-4A4D-A838-18754FF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6C9F-FB67-48AC-B370-795107A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C361-5122-4914-BE48-325147C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C4DF-CC5F-423B-A055-ADB91380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F7CF4-5AF4-4299-9191-25EC62B2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89BB-C179-4EDE-8C2B-E30244F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51D-6A7C-4D2F-BDA8-A9C8A7F20ABB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6A7B-2DDD-4E38-860D-6588D3A4B1F4}" type="slidenum">
              <a:rPr b="0" lang="en-A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745-A9B6-4E76-9312-9816939E9272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2177-F607-4439-A2EE-E78CD60DC8A2}" type="slidenum">
              <a:rPr b="0" lang="en-A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79A-B5ED-4A1A-BBE7-8B8D79469149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253D-D24C-445A-A361-7EB5FB8911EF}" type="slidenum">
              <a:rPr b="0" lang="en-A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AA9-2C3D-42FE-A523-2FDA2857C0BF}" type="slidenum">
              <a:rPr b="0" lang="en-A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Roger_Federer_%2826_June_2009%2C_Wimbledon%29_2_new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ultiplication.com/flashgames/ConeCrazyLevels.htm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170000" y="944640"/>
            <a:ext cx="7023240" cy="28782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"/>
          <p:cNvSpPr/>
          <p:nvPr/>
        </p:nvSpPr>
        <p:spPr>
          <a:xfrm>
            <a:off x="714240" y="464328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88ba"/>
                </a:solidFill>
                <a:latin typeface="Century Gothic"/>
              </a:rPr>
              <a:t>By: Erin McC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88ba"/>
                </a:solidFill>
                <a:latin typeface="Century Gothic"/>
              </a:rPr>
              <a:t>Grade: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d:\Users\Erinm.STAWELL-PS.000\Desktop\Untitled 35.jpg"/>
          <p:cNvPicPr/>
          <p:nvPr/>
        </p:nvPicPr>
        <p:blipFill>
          <a:blip r:embed="rId2"/>
          <a:srcRect l="25784" t="6252" r="0" b="0"/>
          <a:stretch/>
        </p:blipFill>
        <p:spPr>
          <a:xfrm>
            <a:off x="3429000" y="4214880"/>
            <a:ext cx="2262240" cy="21430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7286760" y="28584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Main characters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Robbit, Andy, Jonathan &amp; The two Beetle boy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Magic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Setting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ext to the old oak tre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Good deed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Helping Jonathan out of the w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Bad deed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Conflicts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286760" y="51436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2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ounder: Harry Cunn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When: 196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verage money: 2.5 billion dollars per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Owner: Sears Holdings Corp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Originated: Detroit, Michig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Rectangle 3" descr=""/>
          <p:cNvPicPr/>
          <p:nvPr/>
        </p:nvPicPr>
        <p:blipFill>
          <a:blip r:embed="rId1"/>
          <a:stretch/>
        </p:blipFill>
        <p:spPr>
          <a:xfrm>
            <a:off x="291960" y="85680"/>
            <a:ext cx="4627800" cy="1657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http://upload.wikimedia.org/wikipedia/en/4/4a/Kmart.png"/>
          <p:cNvPicPr/>
          <p:nvPr/>
        </p:nvPicPr>
        <p:blipFill>
          <a:blip r:embed="rId2"/>
          <a:stretch/>
        </p:blipFill>
        <p:spPr>
          <a:xfrm>
            <a:off x="4429080" y="357120"/>
            <a:ext cx="4275360" cy="13575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6929280" y="542916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4" action="ppaction://hlinksldjump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File:Roger Federer (26 June 2009, Wimbledon) 2 ne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3213000"/>
            <a:ext cx="1857240" cy="3645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00040" y="150012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Roger Federer is famous for his great skills in playing tennis. He had a few nicknam</a:t>
            </a:r>
            <a:r>
              <a:rPr b="0" i="1" lang="en-AU" sz="3000" spc="-1" strike="noStrike">
                <a:solidFill>
                  <a:srgbClr val="ffffff"/>
                </a:solidFill>
                <a:latin typeface="Century Gothic"/>
              </a:rPr>
              <a:t>es Eg. </a:t>
            </a: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Swiss Maestro, </a:t>
            </a:r>
            <a:br>
              <a:rPr sz="3000"/>
            </a:b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ederer Express &amp; Darth Federer. He was born in Basel, Switzerland and he was born on the 8</a:t>
            </a:r>
            <a:r>
              <a:rPr b="0" lang="en-AU" sz="30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 August in1981 and he is 28 years o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Did you know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He is 1.85 metres tal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He weighs 85k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Rectangle 3" descr=""/>
          <p:cNvPicPr/>
          <p:nvPr/>
        </p:nvPicPr>
        <p:blipFill>
          <a:blip r:embed="rId3"/>
          <a:stretch/>
        </p:blipFill>
        <p:spPr>
          <a:xfrm>
            <a:off x="1785960" y="249120"/>
            <a:ext cx="5632560" cy="11462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5143680" y="59342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4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5" action="ppaction://hlinksldjump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20840" y="-36360"/>
            <a:ext cx="8242200" cy="1444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44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Crazy cones is a game for most ag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The aim of the game is to get as many questions righ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If you get a question wrong you get a second chance but if its wrong the second time the customer will leave if you lose to many customers you get the sack this means you LOSE.  I would recommend this game for children who are between 7 and 1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Click on the website below to go to CRAZY CON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643120" y="1071720"/>
            <a:ext cx="38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388c"/>
                </a:solidFill>
                <a:latin typeface="Arial"/>
              </a:rPr>
              <a:t>Crazy C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85880" y="57862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2"/>
              </a:rPr>
              <a:t>http://www.multiplication.com/flashgames/ConeCrazyLevels.htm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7572240" y="528624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Title Pa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Andy &amp; the beetles rescue Jonath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Information on K-mar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Roger Feder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Times Tables game (Crazy Cone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40059"/>
                </a:solidFill>
                <a:latin typeface="Century Gothic"/>
              </a:rPr>
              <a:t>End Slide Show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3:38Z</dcterms:created>
  <dc:creator>Education</dc:creator>
  <dc:description/>
  <dc:language>en-US</dc:language>
  <cp:lastModifiedBy>Education</cp:lastModifiedBy>
  <dcterms:modified xsi:type="dcterms:W3CDTF">2009-12-07T01:51:05Z</dcterms:modified>
  <cp:revision>29</cp:revision>
  <dc:subject/>
  <dc:title>Slide 1</dc:title>
</cp:coreProperties>
</file>